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.wmf" ContentType="image/x-wmf"/>
  <Override PartName="/ppt/media/image28.png" ContentType="image/png"/>
  <Override PartName="/ppt/media/image27.png" ContentType="image/png"/>
  <Override PartName="/ppt/media/image26.png" ContentType="image/png"/>
  <Override PartName="/ppt/media/image25.png" ContentType="image/png"/>
  <Override PartName="/ppt/media/image23.wmf" ContentType="image/x-wmf"/>
  <Override PartName="/ppt/media/image22.wmf" ContentType="image/x-wmf"/>
  <Override PartName="/ppt/media/image19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14.png" ContentType="image/png"/>
  <Override PartName="/ppt/media/image9.wmf" ContentType="image/x-wmf"/>
  <Override PartName="/ppt/media/image30.png" ContentType="image/png"/>
  <Override PartName="/ppt/media/image32.png" ContentType="image/png"/>
  <Override PartName="/ppt/media/image37.png" ContentType="image/png"/>
  <Override PartName="/ppt/media/image7.png" ContentType="image/png"/>
  <Override PartName="/ppt/media/image15.wmf" ContentType="image/x-wmf"/>
  <Override PartName="/ppt/media/image34.png" ContentType="image/png"/>
  <Override PartName="/ppt/media/image17.wmf" ContentType="image/x-wmf"/>
  <Override PartName="/ppt/media/image35.png" ContentType="image/png"/>
  <Override PartName="/ppt/media/image12.png" ContentType="image/png"/>
  <Override PartName="/ppt/media/image36.png" ContentType="image/png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31.png" ContentType="image/png"/>
  <Override PartName="/ppt/media/image1.png" ContentType="image/png"/>
  <Override PartName="/ppt/media/image24.png" ContentType="image/png"/>
  <Override PartName="/ppt/media/image16.png" ContentType="image/png"/>
  <Override PartName="/ppt/media/image20.png" ContentType="image/png"/>
  <Override PartName="/ppt/media/image21.wmf" ContentType="image/x-wmf"/>
  <Override PartName="/ppt/media/image1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980238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9870-D784-49A9-9596-B9B591622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BE5D-FA8C-44A8-B4CE-307F8E8AB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01FE-5A37-47B0-87EF-81E7080B7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98B1-2B0D-4F09-80E7-BAC66E330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E079-84E9-4B99-A69F-71B2D3F2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A44E-F5A3-4F14-9F07-BC976061D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968F-CD30-43FE-9629-5FFEF8D5A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B699-6945-4A12-8DA4-0C2685F19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7C51-DBBF-4E77-9729-9C9F4DBEB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D05E-A209-4BCD-AE8B-509B87BD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AEC0-D89C-4790-B006-D4BA47FA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323F-BB63-4D15-96F6-DDEBDD30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82C7A-E6F3-4401-BD4F-A419F132C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447920"/>
            <a:ext cx="838188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Measures 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of 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Disease Frequency</a:t>
            </a:r>
            <a:br>
              <a:rPr sz="40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12560" y="3962520"/>
            <a:ext cx="4521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ates, Ratios, and Propor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cidence versus Preval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isk versus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ort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isk/Rate Adju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House Guest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209680" y="1752480"/>
            <a:ext cx="4724640" cy="35816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973440" y="5450040"/>
            <a:ext cx="667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uests arrive 2 per day and stay 5 d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w many guests in the house after a wee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nswer: 10 (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P=10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 I=2, </a:t>
            </a:r>
            <a:r>
              <a:rPr b="1" lang="en-US" sz="2400" spc="-1" strike="noStrike">
                <a:solidFill>
                  <a:srgbClr val="ff99ff"/>
                </a:solidFill>
                <a:latin typeface="Arial"/>
              </a:rPr>
              <a:t>D=5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Ri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Probability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that an individual with certain characteristics such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R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S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Smoking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will experience a health status change over a specified follow-up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33cc33"/>
                </a:solidFill>
                <a:uFillTx/>
                <a:latin typeface="Arial"/>
              </a:rPr>
              <a:t>Assumes:</a:t>
            </a:r>
            <a:r>
              <a:rPr b="1" lang="en-US" sz="26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cc33"/>
                </a:solidFill>
                <a:latin typeface="Arial"/>
              </a:rPr>
              <a:t>Does not have disease at start of follow-u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cc33"/>
                </a:solidFill>
                <a:latin typeface="Arial"/>
              </a:rPr>
              <a:t>Does not die from other cause during follow-up</a:t>
            </a:r>
            <a:r>
              <a:rPr b="1" lang="en-US" sz="2600" spc="-1" strike="noStrike">
                <a:solidFill>
                  <a:srgbClr val="ff505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i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0 ≤ RISK≤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0% ≤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ercentage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≤ 10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pecify risk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e 10-year risk that a 45-year-old male will develop prostate cancer is 5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umulative Inc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 = # of new cases during follow-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 = # of disease-free subjects at start of follow-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easures the frequency of addition of new cases of  disease and is always calculated for a given period of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276720" y="1219320"/>
            <a:ext cx="2514600" cy="19018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2518920"/>
            <a:ext cx="4038480" cy="2692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5859360" y="3941280"/>
            <a:ext cx="3284640" cy="218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rcRect l="0" t="14758" r="0" b="0"/>
          <a:stretch/>
        </p:blipFill>
        <p:spPr>
          <a:xfrm>
            <a:off x="685800" y="1295280"/>
            <a:ext cx="7772400" cy="33642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85800" y="4648320"/>
            <a:ext cx="7772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umulative Inc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ost common way to estimate ris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lways a propor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ssumes a fixed coh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or brief specified periods of time, e.g. an outbreak, commonly called an Attack “Rat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eware of attr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ormula does not reflect continually changing population size for dynamic coho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oes not allow subjects to be followed for different time perio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rcRect l="0" t="30162" r="0" b="0"/>
          <a:stretch/>
        </p:blipFill>
        <p:spPr>
          <a:xfrm>
            <a:off x="1143000" y="2438280"/>
            <a:ext cx="7086600" cy="33530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rcRect l="0" t="0" r="0" b="80021"/>
          <a:stretch/>
        </p:blipFill>
        <p:spPr>
          <a:xfrm>
            <a:off x="1143000" y="1371600"/>
            <a:ext cx="708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0" t="28584" r="0" b="0"/>
          <a:stretch/>
        </p:blipFill>
        <p:spPr>
          <a:xfrm>
            <a:off x="609480" y="1981080"/>
            <a:ext cx="8001000" cy="38102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rcRect l="0" t="0" r="0" b="80021"/>
          <a:stretch/>
        </p:blipFill>
        <p:spPr>
          <a:xfrm>
            <a:off x="609480" y="914400"/>
            <a:ext cx="8001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0" t="23948" r="0" b="0"/>
          <a:stretch/>
        </p:blipFill>
        <p:spPr>
          <a:xfrm>
            <a:off x="762120" y="2057400"/>
            <a:ext cx="7543800" cy="4114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0" r="0" b="80021"/>
          <a:stretch/>
        </p:blipFill>
        <p:spPr>
          <a:xfrm>
            <a:off x="762120" y="990720"/>
            <a:ext cx="75438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Ra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escribes how rapidly health events are occurring in a population of inter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 Epidemiologic studies, we typically measure the average rate at which a disease is occurring over a period of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0 new cases per 10,000 person-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Interpretatio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n average of 50 cases occurs for every 10,000 years of disease free follow-up time observed on a cohort of su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Hypothetical data on the frequency of hepatitis in two c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520" y="233172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               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Location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New cases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Year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    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ity A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58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002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5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ity B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35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2001-2002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7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hich of these describes a r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5 new cases per 100 person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40 miles per h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0 new cases out of 100 disease-free per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60 new murders per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60 deaths out of 200 lung cancer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ncidence 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 = # of new cases during follow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T = total time that disease–free individuals in the cohort are observed over the study peri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Synonyms: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hazard rate, incidence density 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easures the rapidity with which new cases are occurring in a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124080" y="1219320"/>
            <a:ext cx="281952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Example</a:t>
            </a:r>
            <a:br>
              <a:rPr sz="36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ypothetical cohort of 12 initially disease-free subjects followed over a 5-year period from 1990 to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077320" cy="48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xample,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tudy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s the value of 0.20 a propor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Does the value of 0.20 represent the risk of developing disea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2515680"/>
            <a:ext cx="4038480" cy="26924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85800" y="1295280"/>
            <a:ext cx="76201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Parkinson’s Dis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7467480" cy="3029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990720" y="4267080"/>
            <a:ext cx="7467480" cy="8859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990720" y="5105520"/>
            <a:ext cx="7467480" cy="6969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066680" y="4267080"/>
            <a:ext cx="3048120" cy="838440"/>
          </a:xfrm>
          <a:prstGeom prst="rect">
            <a:avLst/>
          </a:prstGeom>
          <a:solidFill>
            <a:srgbClr val="fffff7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nfusing Risk with 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e term “Rate” is often been used incorrectly to describe a measure of ris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e.g.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Attack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Death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Case-Fatality Rate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When reading Epidemiologic literature, one should be careful to determine the actual measure being repor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Preva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easures existing cases of a health con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rimary feature of a cross-sectional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wo types of Preval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Point preva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Period preva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Point Preva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 = # of observed cases at time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 = Population size at time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easures the frequency of disease at a given point in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200400" y="1295280"/>
            <a:ext cx="228600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Point Prevalence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uppose there are 150 individuals in a population and, on a certain day, 15 are ill with the flu.  What is the estimated prevalence for this popul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514600" y="4267080"/>
            <a:ext cx="3352680" cy="13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Study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s point prevalence a propor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uppose 13 people from a population of size 406,245 had a particular disease at time t.  What is the point prevalence of this disease at time 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hich of the following expressions is equivalent to the point prevalence estimate of 0.000032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.2 per 1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.2 per 10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2 per 10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Hypothetical data on the frequency of hepatitis in two c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                                                                               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Location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New cases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Year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    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ity A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58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002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5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ity B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35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2001-2002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7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nnual rate of occurrence of hepatit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ity A:  58 / 25,000 / 1 year =  232/10</a:t>
            </a:r>
            <a:r>
              <a:rPr b="1" lang="en-US" sz="2800" spc="-1" strike="noStrike" baseline="34000">
                <a:solidFill>
                  <a:srgbClr val="0000ff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/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ity B:  35 / 7000 / 2 years = 17.5 / 7000 / 1 ye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= 250/10</a:t>
            </a:r>
            <a:r>
              <a:rPr b="1" lang="en-US" sz="2800" spc="-1" strike="noStrike" baseline="34000">
                <a:solidFill>
                  <a:srgbClr val="0000ff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/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Preva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Useful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ssessing the health status of a popu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lanning health ser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Not Useful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dentifying risk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Period Preva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 = the # of prevalent cases at the beginning of the time perio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 = the # of incident cases that develop during the peri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 = size of the population for this same time perio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666880" y="1600200"/>
            <a:ext cx="358164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uppose we followed a population of 150 persons for one year, and 25 had a disease of interest at the start of follow-up and another 15 new cases developed during the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hat is the period prevalence for the ye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)    What is the point prevalence at the start of the perio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)    What is the cumulative incidence for the one year perio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uppose we followed a population of 150 persons for one year, and 25 had a disease of interest at the start of follow-up and another 15 new cases developed during the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hat is the period prevalence for the ye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0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P = (25 + 15) / 150 = 0.27 or 2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0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)  What is the point prevalence at the start of the perio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0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 = 25/150 = 0.17 = 1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)  What is the cumulative incidence for the one year perio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0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I = 15/125 = 0.12 = 1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ortality Ri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isease-Specific Mortality R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ll-causes Mortality R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ase-Fatality R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200400" y="3581280"/>
            <a:ext cx="266688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ortality 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isease-Specific Mortality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ll-causes Mortality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ase-Fatality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200400" y="3657600"/>
            <a:ext cx="251460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287440" y="1676520"/>
            <a:ext cx="4371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00"/>
                </a:solidFill>
                <a:latin typeface="Arial"/>
              </a:rPr>
              <a:t>      </a:t>
            </a: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Ag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Adjustm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rcRect l="0" t="0" r="0" b="20866"/>
          <a:stretch/>
        </p:blipFill>
        <p:spPr>
          <a:xfrm>
            <a:off x="685800" y="609480"/>
            <a:ext cx="7772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rcRect l="0" t="0" r="0" b="16923"/>
          <a:stretch/>
        </p:blipFill>
        <p:spPr>
          <a:xfrm>
            <a:off x="533520" y="457200"/>
            <a:ext cx="79246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7239240" cy="39625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066680" y="838080"/>
            <a:ext cx="7239240" cy="1143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858000" y="1752480"/>
            <a:ext cx="144792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ates, Ratios, Propor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ree general classes of mathematical parame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ften used t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relate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number of cas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f 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disease or health outcome to the size of the source popul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n which they occur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rcRect l="0" t="0" r="0" b="14082"/>
          <a:stretch/>
        </p:blipFill>
        <p:spPr>
          <a:xfrm>
            <a:off x="838080" y="762120"/>
            <a:ext cx="7620120" cy="53337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705720" y="5715000"/>
            <a:ext cx="167616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914400" y="5715000"/>
            <a:ext cx="746748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7467840" cy="35053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838080" y="1371600"/>
            <a:ext cx="746784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7620120" cy="33530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7620120" cy="9903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705720" y="1828800"/>
            <a:ext cx="1752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rcRect l="0" t="0" r="0" b="20528"/>
          <a:stretch/>
        </p:blipFill>
        <p:spPr>
          <a:xfrm>
            <a:off x="762120" y="533520"/>
            <a:ext cx="7696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762120" y="609480"/>
            <a:ext cx="75438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685800" y="76212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rcRect l="0" t="39642" r="0" b="17499"/>
          <a:stretch/>
        </p:blipFill>
        <p:spPr>
          <a:xfrm>
            <a:off x="1371600" y="1295280"/>
            <a:ext cx="632448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914400" y="4267080"/>
            <a:ext cx="7315200" cy="1828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rcRect l="0" t="39642" r="0" b="17499"/>
          <a:stretch/>
        </p:blipFill>
        <p:spPr>
          <a:xfrm>
            <a:off x="762120" y="914400"/>
            <a:ext cx="75438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0" t="0" r="0" b="19752"/>
          <a:stretch/>
        </p:blipFill>
        <p:spPr>
          <a:xfrm>
            <a:off x="685800" y="304920"/>
            <a:ext cx="792468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at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Obtained by dividing one quantity by another.  These quantities may be related or may be totally independ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Usually expressed as: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5050"/>
                </a:solidFill>
                <a:uFillTx/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umber of stillbirths per thousand live birt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eneral term that includes Rates and Propor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2743200" y="4343400"/>
            <a:ext cx="2514600" cy="838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4267080" y="2438280"/>
            <a:ext cx="1143000" cy="108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Propor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 ratio in which the numerator is included in the denomina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xpressed a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here, 10</a:t>
            </a:r>
            <a:r>
              <a:rPr b="1" lang="en-US" sz="2400" spc="-1" strike="noStrike" baseline="30000">
                <a:solidFill>
                  <a:srgbClr val="0000ff"/>
                </a:solidFill>
                <a:latin typeface="Arial"/>
              </a:rPr>
              <a:t>n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s often 1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5050"/>
                </a:solidFill>
                <a:uFillTx/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he number of fetal deaths out of the total number of birt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nswer often read as a perc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4648320"/>
            <a:ext cx="4038480" cy="954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429000" y="2133720"/>
            <a:ext cx="1219320" cy="10872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4191120" cy="90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R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 measure of how quickly something of interest happen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xpressed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5050"/>
                </a:solidFill>
                <a:uFillTx/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he number of new cases of Parkinson’s disease which develops per 1,000 person-years of follow-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ime, place and population must be specified for each type of r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676520" y="4343400"/>
            <a:ext cx="6248160" cy="874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352680" y="2286000"/>
            <a:ext cx="1143000" cy="10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Measures of Disease Frequen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Arial"/>
              </a:rPr>
              <a:t>Incidence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 (I)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easur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Arial"/>
              </a:rPr>
              <a:t>new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ases of a disease that develop over a period of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9900"/>
                </a:solidFill>
                <a:uFillTx/>
                <a:latin typeface="Arial"/>
              </a:rPr>
              <a:t>Prevalence</a:t>
            </a: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 (P)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easur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669900"/>
                </a:solidFill>
                <a:uFillTx/>
                <a:latin typeface="Arial"/>
              </a:rPr>
              <a:t>exist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ases of a disease at a particular point in time or over a period of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Prevalence vs. Inc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14111" t="15269" r="7598" b="31662"/>
          <a:stretch/>
        </p:blipFill>
        <p:spPr>
          <a:xfrm>
            <a:off x="2362320" y="1295280"/>
            <a:ext cx="4495680" cy="23623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3657240"/>
            <a:ext cx="8229600" cy="21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Prevale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an be viewed as describing a pool of disease in a po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Incide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escribes the input flow of new cases into the p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atality and recovery reflects the output flow from the poo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5-01-10T19:55:51Z</dcterms:modified>
  <cp:revision>17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86904489</vt:r8>
  </property>
  <property fmtid="{D5CDD505-2E9C-101B-9397-08002B2CF9AE}" pid="3" name="_AuthorEmail">
    <vt:lpwstr>dgk0@cdc.gov</vt:lpwstr>
  </property>
  <property fmtid="{D5CDD505-2E9C-101B-9397-08002B2CF9AE}" pid="4" name="_AuthorEmailDisplayName">
    <vt:lpwstr>Kleinbaum, David</vt:lpwstr>
  </property>
  <property fmtid="{D5CDD505-2E9C-101B-9397-08002B2CF9AE}" pid="5" name="_EmailSubject">
    <vt:lpwstr>meas of disease freq pp attached</vt:lpwstr>
  </property>
  <property fmtid="{D5CDD505-2E9C-101B-9397-08002B2CF9AE}" pid="6" name="_ReviewingToolsShownOnce">
    <vt:lpwstr/>
  </property>
</Properties>
</file>